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C69D-64DD-45A4-A51A-288FB19F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17074-FF85-4BF6-B578-C1DC4D0B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9424B-F8FD-40B1-83DD-607CAEFB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1EACD-49B1-4261-A1D0-274032EF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2B0C-7E34-4979-9DDB-C3093741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55FB-9A56-43FD-BB39-846B0766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1225-154C-4FEC-8B94-0C523180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30A8-344C-42EE-B7DD-CC337E27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793B-B125-4AE8-9ACC-370749E9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EDFE-CA4C-44D7-B5AD-1EE55FAD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8556-F915-4FAC-BB66-6A989ADD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2776-63D7-43E0-A2F0-A83C9DE0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707E-6B73-4EFC-B259-C2661225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6A1D-25F7-4695-9C1D-FEAA6E30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4050-C645-4705-B010-6C7F3F69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2F82-D900-4263-827F-EFC4340F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A769-5902-402C-9281-BF44ED83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E8439-A4B7-4ADA-AEEC-68558B70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AB52-CE2B-4EF2-9385-B601D3D6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80404-55CB-46B2-A3D4-939F45EA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66B4-E568-48E4-9D89-A2CBBC57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B31B8-3D03-4BED-855D-07417398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7553-F4E0-4578-A0B1-91AB3A35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31CEB-CF41-4420-9839-F9CBF66B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B969-6F9B-4938-A9DB-225AF74FA96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0BD9-1176-4201-9E33-1F28D4B2D0C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359720"/>
            <a:ext cx="11279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5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6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Божи ден, ден освет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правиш ме да съм блажен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насяш ми ти свят поко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душа ми мир от Бога м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224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Божи ден на радост, мир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за душата свят си пир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ъди сега помежду на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рез Своя Дух, о, Боже наш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120" y="1794240"/>
            <a:ext cx="87994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Господи, в тоз светъл ден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бъда аз благослов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рез Твоя Дух възобнов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рай да празнувам аз Твоя д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5-12T06:35:29Z</dcterms:modified>
  <cp:revision>20</cp:revision>
  <dc:subject/>
  <dc:title>Slide 1</dc:title>
</cp:coreProperties>
</file>